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B26-BB34-4D53-853A-CAF6CE8D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275-085D-42E5-B152-4036A0A9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19E-C2BD-4C0B-A4D8-7DE33CED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E23-233D-456D-BDB4-12BF265C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327-F605-4BCA-AE3E-E1AFE1D7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67F-55EB-4515-827C-B966988A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B5B-9A41-4470-BA42-49905225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F88-0504-4FC3-A01C-141B943E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746-EA13-4909-A586-3928AD99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7B2-D07D-43C2-A2CA-5BB3009B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BB1-CF3F-4107-8591-839B25B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113-18D5-420D-B10D-4387C50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3DDE-38DB-462A-A1BA-8E8169EA07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7920" y="1481040"/>
            <a:ext cx="746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过去时表示一个动作或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某个的时间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开始和结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o school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bough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new ca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three days ag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30640" y="44370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7960" y="4437000"/>
            <a:ext cx="0" cy="533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83440" y="4716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640" y="497052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alked,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97360"/>
            <a:ext cx="46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60020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I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Roger at nine las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ght,  but 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be,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a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.He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at the libr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1960" y="450864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lled;was not;was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99072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I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ear,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the thunder during the storm last night because I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lee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0880" y="4581360"/>
            <a:ext cx="65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dn’t hear;was slee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47920"/>
            <a:ext cx="820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My brother and sister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rgu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about something when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into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1280" y="426708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 arguing;w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838080"/>
            <a:ext cx="790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While Mrs. Emerson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re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the little boy a story,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fall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a sleep,so she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los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 the book and quie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ipto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out of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760" y="5003640"/>
            <a:ext cx="80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reading,fell,closed,tipto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6160" y="1341360"/>
            <a:ext cx="85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----Nancy is not co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But she ____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promises       B.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ill promise  D. had 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365720"/>
            <a:ext cx="27432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447920"/>
            <a:ext cx="828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Shirley ___ a boo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ina last year but I don’t know whether  she has finish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ritten    B.wr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written    D.was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5877000"/>
            <a:ext cx="3276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55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83664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I first met Lisa three years ago.She ___ at a radio shop at the ti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ork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 wa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been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had wor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508640"/>
            <a:ext cx="3581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69228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0.I don’t think Jim saw me; he ___ into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A.just stared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B.was just st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C.has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.had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645000"/>
            <a:ext cx="4419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1760" y="1143000"/>
            <a:ext cx="807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As she ____ the newspap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nny____ asl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read; 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was reading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as reading;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read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114800"/>
            <a:ext cx="4594320" cy="34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1400" y="1484280"/>
            <a:ext cx="8474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---You phone number ag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____ quite catch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It’s 956844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didn’t        B.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don’t         D.ca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3700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44640"/>
            <a:ext cx="779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过去经常性的动作或情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often got up at 6:00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366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800" y="1219320"/>
            <a:ext cx="8834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---We could have walk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tation,it was so n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Yes,a taxi ___ at necessa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wasn’t     B. hadn’t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 would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 wo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149720"/>
            <a:ext cx="230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341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4.Tom ___ into the house when no on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slipped, was lo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had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slipped, had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3573360"/>
            <a:ext cx="7561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07920"/>
            <a:ext cx="8335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eporter said the UFO _____east to west when he saw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vel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ravel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been tra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to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581360"/>
            <a:ext cx="5184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836640"/>
            <a:ext cx="7796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ey, look where you are going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Oh, I’m terribly sorry.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’m no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wasn’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have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do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8640"/>
            <a:ext cx="5112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98900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What a nice bike! Where ___ you ___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o; buy     B. have; 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did ; buy  D. will;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292640"/>
            <a:ext cx="309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students ___ busily when Miss Brown went to get a book she ___ in the off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s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2428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484280"/>
            <a:ext cx="700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ry ___ a dress when she cut her fin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de    B. is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was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ma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84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890640"/>
            <a:ext cx="779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last time I ___ Jane she ___ cotton in the fiel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229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1040" y="1382760"/>
            <a:ext cx="44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动词的四种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原形   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形式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现在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3480" y="1763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1600" y="1230480"/>
            <a:ext cx="568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动词的一般过去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isten—liste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study---stud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stop-----sto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p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come----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560" y="2362320"/>
            <a:ext cx="757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didn’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Di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5480" y="762120"/>
            <a:ext cx="791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进行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Times New Roman"/>
              </a:rPr>
              <a:t>when it began to rain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3429000"/>
            <a:ext cx="5381640" cy="2743200"/>
            <a:chOff x="1476360" y="3429000"/>
            <a:chExt cx="5381640" cy="2743200"/>
          </a:xfrm>
        </p:grpSpPr>
        <p:sp>
          <p:nvSpPr>
            <p:cNvPr id="55" name=""/>
            <p:cNvSpPr/>
            <p:nvPr/>
          </p:nvSpPr>
          <p:spPr>
            <a:xfrm>
              <a:off x="5508720" y="4365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495680"/>
              <a:ext cx="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4648320"/>
              <a:ext cx="14479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cubicBezTo>
                    <a:pt x="152" y="168"/>
                    <a:pt x="304" y="336"/>
                    <a:pt x="432" y="336"/>
                  </a:cubicBezTo>
                  <a:cubicBezTo>
                    <a:pt x="560" y="336"/>
                    <a:pt x="664" y="168"/>
                    <a:pt x="768" y="0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4600" y="3429000"/>
              <a:ext cx="4343400" cy="609480"/>
            </a:xfrm>
            <a:prstGeom prst="wedgeRectCallout">
              <a:avLst>
                <a:gd name="adj1" fmla="val -50875"/>
                <a:gd name="adj2" fmla="val 13020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hen it began to r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5562720"/>
              <a:ext cx="2590560" cy="609480"/>
            </a:xfrm>
            <a:prstGeom prst="wedgeRectCallout">
              <a:avLst>
                <a:gd name="adj1" fmla="val -36518"/>
                <a:gd name="adj2" fmla="val -997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 was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4653000"/>
              <a:ext cx="518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8560" y="45957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19880" y="2133720"/>
            <a:ext cx="56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过去进行时的构成 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was/were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+ - 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60" y="1052640"/>
            <a:ext cx="9070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not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yo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685800"/>
            <a:ext cx="7010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进行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I don’t want to go to the zoo today  because it is raining.The same thing  happened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 I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nt 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_  to go to the zoo because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rai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640" y="558972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idn’t want, wa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0:05:39Z</dcterms:created>
  <dc:creator>zhao jinliang</dc:creator>
  <dc:description/>
  <dc:language>en-US</dc:language>
  <cp:lastModifiedBy>Legend User</cp:lastModifiedBy>
  <dcterms:modified xsi:type="dcterms:W3CDTF">2002-11-24T11:53:40Z</dcterms:modified>
  <cp:revision>19</cp:revision>
  <dc:subject/>
  <dc:title>PowerPoint 演示文稿</dc:title>
</cp:coreProperties>
</file>